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8008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13080"/>
            <a:ext cx="78008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3160" y="2133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880" y="2133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13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3160" y="4213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880" y="4213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8008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8008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13080"/>
            <a:ext cx="78008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60348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1999 by Timo Humme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 Control Driver Architecture /</a:t>
            </a:r>
            <a:fld id="{9F9F06A8-5683-4999-9426-F9EB028B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3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14400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85440" y="2133360"/>
            <a:ext cx="78008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752480"/>
            <a:ext cx="3505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32 API for serial and USB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57200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86728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867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867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300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6232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581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33520"/>
            <a:ext cx="3504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3623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86000" y="990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1337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sim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35268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7057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449568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17:13:41Z</dcterms:created>
  <dc:creator>DJ Rune</dc:creator>
  <dc:description/>
  <dc:language>en-US</dc:language>
  <cp:lastModifiedBy>Eric Lesniewski</cp:lastModifiedBy>
  <dcterms:modified xsi:type="dcterms:W3CDTF">1999-06-23T01:37:02Z</dcterms:modified>
  <cp:revision>1</cp:revision>
  <dc:subject/>
  <dc:title>Kein Folientitel</dc:title>
</cp:coreProperties>
</file>